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A4AC-0810-4FC1-A51C-77C6E8A5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424A-A83C-4F06-A88C-EAB06F0F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9A85-44C9-4D49-A619-2CAD2008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EA80-B046-48C7-9521-83AD5531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9DC0-1410-4C4B-BB28-B7F23B3F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FB46-CB82-438D-B8F7-1785CD76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9F07-19A7-4D74-B3D4-F64CA19D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4993-0500-47EE-919E-C05EFED7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4999-08A0-4E47-9C1B-F3B75820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6B31-87D4-4B6D-8262-D76112EE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F21E-3F16-4FBA-9911-1C6CE91E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F996-9818-431F-8647-2F2101D2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4729-EB4B-49E9-83B6-CD721E9C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2AFB-1ED3-4944-B8E3-E175A698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E004-0986-4368-9919-2ED4B75A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2392-3026-4ADA-AE6E-44632017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39A0-7886-4431-B056-37555AA3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8FAB4-9207-4AAD-807A-57CA67C7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6CFD0-B764-49C2-BD80-09004A54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AC5A0-AFE5-40A6-9DCE-BC2F75C1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A78E0-C24C-4880-A054-351A93CD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D448F-241F-4F80-9B00-8161724F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5251-F699-435C-B9D1-BAFB1AD8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0CBD6-8F11-4316-991C-B642DA55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7B566-0F5C-4B68-8F1A-D80B37BB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88F07-45E3-4E3C-9730-6858A09F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D5419-501D-4945-8B4F-A2C93BE4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F2E4C-B452-463D-84D3-9BC9C13D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4B97E-47AC-454F-A6AC-05AF0FBF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C555F-FE2A-4592-BCE7-70C6F155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D0A73-DE3F-4BDF-A563-DF746E03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77F14-CA25-4B6C-A375-6185F296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74B2E-B41C-4A88-A29B-26B90692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0ACC-5267-45A4-A4DF-0BC40C48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68DFA-29C8-46D8-9B7D-7385C649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8346F-87EB-4963-A54B-151F1A02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4940F-063A-4C7C-813D-F133E64B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D1FFC-DF5F-47EF-810F-F7087FBC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B7CCF-CBCA-4A7E-861E-AFA6C22D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C1D09-F35C-43A3-A736-A595FB56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074C3-17F0-430B-A98E-5B9904C5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9FBD2-043B-4799-8CB8-7A8F5C44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602BE-BB44-4760-8576-869803FBE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E7722-31DF-466F-A815-F1C663C8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BC23-4FFF-45CF-B405-453C5C81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13E41-F893-48DB-88B4-C83E7FA0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19F79-6151-4F01-8553-E6DBCA7C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744D7-265A-4255-8756-14FC5278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48ABD-679E-424B-826A-9B9DF1D4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EC498-14CB-4F76-A147-1F166274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117AD-3B25-43B0-936E-B9BDB279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642BE-7269-488B-B063-6E528B9F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2B8F7-10DE-4CDE-881E-E3F972FD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3F199-6E32-479D-A34C-EB2864D6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56219-B6A0-411B-825E-62DFF662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633-277C-4674-84FA-632946E8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DB3DF-F85A-44C4-9096-92C59E30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6B833-D999-4B2F-B602-0569101C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85C93-B53C-4681-9645-33F65B37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3D90B-8BED-4BC8-B389-5823EB9F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309F4-D521-4428-8A3A-674E5B96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F92C7-C44F-42CA-B82F-426F9FE2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34158-CCEE-4EA7-BE3D-58E7AA1A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824F4-88D3-465C-9582-D3C08392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BDA6F-8A8B-451A-A5BE-D1508D31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03D2E-D48D-4C3E-B970-3A1C137C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9C99-4E12-4D3E-9911-F72E0814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BC630-4925-4AB9-936F-D2623F1A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64DF3-52B9-48D6-AE94-FF0B3023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A2ADF-18F4-4BBE-A9F9-7E56B0F0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97D32-B53B-4522-A2F4-910E34E9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BD9BF-706A-45B2-8507-1B1B124D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81B73-08EF-4037-8BC1-40105C4E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DFA41-42AE-4E17-A609-99A0C352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F84AE-5D79-4181-8C87-F564F47A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668DF-D48A-42BD-A93D-C0F5AB1E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AAE97-CE68-4413-9624-4877C0A6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9659-2C30-475F-A30B-9A014955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FCF2D-D446-4C0C-9A37-8F7CB57F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EA9E2-E856-43ED-BE23-B9D80379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4338E-5611-4C46-B0C3-748ECB4F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B5938-6B32-4450-9063-94DF77FA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F6384-D1C6-4745-A76D-5C1D61E2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059-0AC6-4FDD-A711-77A971DC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E7C1-B063-4DA6-8817-434782CE35A6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C668-D829-4535-BEBE-1F38EEBD5762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870B-47C2-4894-B1E9-757E81C65586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99BB-B721-4EE6-9AE7-58049888648F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1CCB-1836-4E2F-860C-4FAFCE37EB03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B701-FE19-4691-917F-88A3AC24EDD2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9735-0E28-4963-A31C-8C57A93D8859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5560" y="148428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RESCAP-MED Capacity Development Workshop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Health Policy Evaluatio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Amman, Jorda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3-6 June 2013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55560" y="3933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Shahaduz Zam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Newcastle 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Picture 5" descr="http://research.ncl.ac.uk/media/sites/researchwebsites/rescapmed/EUlogo.jpg"/>
          <p:cNvPicPr/>
          <p:nvPr/>
        </p:nvPicPr>
        <p:blipFill>
          <a:blip r:embed="rId1"/>
          <a:stretch/>
        </p:blipFill>
        <p:spPr>
          <a:xfrm>
            <a:off x="262080" y="244440"/>
            <a:ext cx="811080" cy="5302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http://research.ncl.ac.uk/media/sites/researchwebsites/rescapmed/FP7logo2.jpg"/>
          <p:cNvPicPr/>
          <p:nvPr/>
        </p:nvPicPr>
        <p:blipFill>
          <a:blip r:embed="rId2"/>
          <a:stretch/>
        </p:blipFill>
        <p:spPr>
          <a:xfrm>
            <a:off x="1073160" y="243000"/>
            <a:ext cx="695160" cy="530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" descr=""/>
          <p:cNvPicPr/>
          <p:nvPr/>
        </p:nvPicPr>
        <p:blipFill>
          <a:blip r:embed="rId3"/>
          <a:stretch/>
        </p:blipFill>
        <p:spPr>
          <a:xfrm>
            <a:off x="6732720" y="243000"/>
            <a:ext cx="2187360" cy="871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newcastle_master_col"/>
          <p:cNvPicPr/>
          <p:nvPr/>
        </p:nvPicPr>
        <p:blipFill>
          <a:blip r:embed="rId4"/>
          <a:stretch/>
        </p:blipFill>
        <p:spPr>
          <a:xfrm>
            <a:off x="365040" y="5732640"/>
            <a:ext cx="28069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the basic concepts of health policy making and implementation proces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identify and analyse different stakeholders in policy making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health policy making in the globalizing world and the role of national and international players in the process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the cultural aspects of health and health polic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describe the health policy analysis framework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Understand the challenges of health policy implementation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Compare health policy situation between different developing countries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ndara"/>
              </a:rPr>
              <a:t>Learning objectives of the workshop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: Basic Concept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mak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genda setting proces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Stakeholder analys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st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in the globalizing world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ulturally competent health policy: Developing country contex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in the context of political crisi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Role of research in health policy mak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2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nd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Analysis Framework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ase Studie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Palestine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Syria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Jord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olicy Implementation: Experiences from Jordan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olicy brief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anel Discussion and Q &amp; 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rd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Group reading of selected health policy evaluation pape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resentations of the group reading and Q&amp;A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losing remarks and Evaluation of the workshop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4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57200" y="2421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Shahaduz Zaman, Newcastle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Motasem Hamdan, Palestine, Al-Quds University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bdullatif Husseini, Palestine, Birzeit Universit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Fouad Fouad, Syria, American University of Beirut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73e87"/>
                </a:solidFill>
                <a:latin typeface="Candara"/>
              </a:rPr>
              <a:t>Yousef Khader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, Jordan, Jordan University of Science and Technolog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Musa Ajlouni, 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Jordan, Jordan University of Science and Technolog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Riyad Amin Okour, Jordan, Ministry of Health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Jamal Abu Saif, Jordan, Ministry of Health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Facilitator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Start on time—End on tim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Maintain a flexible, responsive schedule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Only one person talks at a tim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ny question is a good questio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ell phones are turned off during session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Some group norm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Enjoy the workshop </a:t>
            </a: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10:17:01Z</dcterms:created>
  <dc:creator>nsz4</dc:creator>
  <dc:description/>
  <dc:language>en-US</dc:language>
  <cp:lastModifiedBy>User</cp:lastModifiedBy>
  <dcterms:modified xsi:type="dcterms:W3CDTF">2013-05-31T23:41:13Z</dcterms:modified>
  <cp:revision>8</cp:revision>
  <dc:subject/>
  <dc:title>PowerPoint Presentation</dc:title>
</cp:coreProperties>
</file>